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AA4-0F98-40E7-97C5-6804FA42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0D9-9239-4269-85B3-E834DA3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06FE9-88B5-4B86-9A07-1BF4729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FE841-AD91-41CF-90DB-DC3838E5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B589F-3DF3-43B3-9A6C-8B0C49B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D4290-70C2-44F9-81C1-76BD794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2F2FA-1EBD-4CAF-B4F5-BE10E64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65D04-722A-4BF0-BE32-35B182D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35F29-8201-4945-979E-D23895A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C301-4542-4595-A0C0-F15A5C5F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7A3F-E343-4E3A-9AF4-0A7C35BD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B94CD-66A8-414B-81B1-5AA629A8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C34-8AB4-4C30-8C3C-03B13AC1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DFB69-4BE2-456A-99F9-064C9F5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A6C04-4716-47BA-9B9D-72EB20FE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F3BE1-2BA7-4D0E-B5D9-02D308E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DB487-F0E5-43B4-A7BB-85F4F28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FE542-4AFA-40BC-BFCD-915C5351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91939-29D4-42E9-9EEA-7648AA4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C8628-31BD-4D89-B973-3BFC045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BD308-365C-490E-B786-93D2169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16AF0-4A51-4F19-A608-73CE2B48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8F1B0-FEFA-4539-A7AF-B38349B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0E2-D361-4A4D-8A30-4F1C3336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AB8A8-7A17-495B-83EB-18533EB7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4E7AC9-D490-4515-8090-ABCB3E81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57CAA6-4306-426B-A73F-723BB61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6B50F5-F8AE-451A-A825-A2C30C2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E725C7-F451-4EDA-B7FD-8DAD35D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C18BBE-E6B8-43F1-88DE-192C4E13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6089B0-979F-41DF-A880-78317FD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208D34-A9DA-488B-B0A6-87D6391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35DC34-354F-4D2F-89B0-88C5E10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BF20F5-2FCD-43EA-8DCA-3B66DDA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207-5A30-44BC-85DD-FFF63404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D88D72-C6EE-4019-8DFA-6AF5AFF1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A457B-F230-4AC1-93C7-558B31E4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ACD73-1F3D-4980-BCE2-7CD24286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786AD-8FCF-4E60-AFC1-BF6425B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95C20-A0D6-49AC-8169-BB721932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BB09-EDD6-4E43-8416-CE96A526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8CA31-8650-4A33-8285-690ABB4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C0C6A-C553-4C70-931E-D420442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93ABB-CC20-4C20-97CF-DD505E1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D859-35FA-4AA0-84FF-CDB2607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001A-2148-4603-9086-00E9975B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2BCC0-6B2F-4852-BEBD-F72CF8F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F1DD2-615E-4644-9D55-F3BDE0C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74242-D582-4063-9C55-D070B88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93A2F-AD95-47BB-B300-9DA7810B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5A79-4F44-4510-BE11-B888B96D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69CA57-1E11-48A4-9245-0487C5FE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BD3C96-94EF-4BEC-9884-F9A1C88E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BF4270-41D8-46DF-855F-111DAECB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D12115-B587-4F4B-8A63-44E6800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1E6C09-71FA-4F5F-8EC0-3AB178CD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2AFF-6FFC-4A89-8047-5A4DC70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E50BB8-BB23-456C-A599-B002A76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AAB02B-691C-450C-BC92-BA27F6C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095A69-F100-4188-A904-D6F7176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02965D-A2EA-47B1-BA87-54682FE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1E6017-BD47-47A5-AAF6-14C7F72B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3820B8-62AC-4018-8278-14757CB2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C3ED09-B518-4661-B40B-89B9E037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F82-BB53-4444-873F-9C874421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325-15F8-454A-8E10-EBE0A59F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5413-CC27-4BA0-828C-4A498BB4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6E5-1EC5-436E-B80D-BEF4E15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D52-C9A5-4C61-A202-85E9260E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E8B-8FC1-4722-8C3A-A41728C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12F-8841-4369-969C-62A9EFE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2CB5-5F51-47FC-8A20-493A520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0314-0DDC-4C3E-9196-DD8CA19E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628D-920A-45C6-96B7-3E2D6B19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7E2B-5787-4EDD-90C4-585C0A5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3C2D-3CD6-40E9-AE4D-5DDF29A4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7306-E5AF-4B85-A551-9B906B7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B11C-851D-44FB-9A48-6379D606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C962-8A9B-492D-9AF6-1F651C9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CE3-F243-4C36-8D2C-CC0F213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E6C1-578E-4564-8F96-0353DD6C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3419-F373-438D-9231-C99BC34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B263-AB25-42FE-9A4E-71B12AF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52ED-E249-472D-8A16-E2D38E6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8716-B40C-4A07-99AB-6576DECE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526D-22FC-475F-9467-50BE39A4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6C59-E08B-46BE-A92A-46D670E7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753A-1403-4AF1-B458-08DEB115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47A9-67CC-4450-8231-2558873B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FCD2-EAD2-41EE-86DE-AA240250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564-39AF-47A5-8023-CB7B8DC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DCCF-875C-436C-8192-17178C62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FF5C-4751-4194-9850-E07AD237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E396-0EC9-48DD-AB59-D34078C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AE10-C29C-4EEC-A6C2-0091E94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18A1-3209-4F2B-B781-47E5F10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045AE-10F8-4A2F-A6EB-B969BB1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1F80-F491-4276-A075-2DDB1D0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FD5F-3941-4A1E-93F6-90B0C59E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DED2-EC9A-43F3-8E7F-CB3949DE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77239-7A4C-4887-9AC0-44ADDCF0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827-1454-4B3B-AD02-6536C888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F26D-4EDF-49D5-A61C-82C14CBE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7A5F-A5ED-48FC-9983-3C606C92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AA400-418B-45F5-A889-D7DDF74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7B62-8DD4-4003-9523-98CE92C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C0F5-8499-4E3A-920D-01E77F9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26A6E-E043-4289-9097-5DA1E9F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DAB6-201B-4E04-B34C-C540CA6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2FF5-7B7B-4043-9829-0107F29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9FF7-F044-4766-A50D-1EDAAB3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92AE-0D24-43E5-898E-E164B0E2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5B5-E1D2-44E9-9FF6-A41BE7E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FDFF0-7E0C-43B3-A1D3-2D53A540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CB681-2278-4933-9B08-E9E49907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07DC-420A-417C-941B-D799F09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5EA2-4E10-437A-AA11-6DE88DDC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E28C-0CEA-4064-A5C0-7350BEA6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F9CF-8759-4149-917A-6FB5924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8FAC-A2DA-4FCC-AE43-09BEF86F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2581-D284-440A-B1E8-DDB76FE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D141-9A8D-44ED-A4A6-A06F602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E480-03E8-45F7-A844-8AC2D20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762-DD5B-4800-A700-6306268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1FDF-FB1E-41E3-AB34-8A960DA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EEE4-D619-4A33-B645-94E27374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C6F0-5219-4191-B676-5DDD60AB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7E7F-BB33-445A-8DF1-DDD337D6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16AD5-060E-4631-9F8A-945AF9F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A5875-3E69-4C7A-8ABA-738BB54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DA94-24CB-4072-8FA0-0EA39F0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E1B3A-A8B8-4124-BDE7-040D3B9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B2FC-CB7B-4AF5-B236-A397B61C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3708-0DBA-4128-A372-ECC638C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135-874F-407D-A848-A8A8B01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D2288-A1FD-4E94-AA96-7EF64817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3ED83-BE81-4A6F-B736-DBBAB2A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BBCDA-C52E-4ABD-AAD1-C49A0A4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20D0-46B7-4382-B5F7-E7E86D04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8D421-5CD9-457A-9188-82C9BC29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DBAA-D8E0-4DA1-99A0-BAAC4CC3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13539-1DD8-45EB-BF55-06C4E03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B6C17-BE02-477A-9371-2AF8A559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D09E-38CD-4E85-936D-39D63A8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CE9E-0BFB-42EB-AF0C-FB23B54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09C-E5F7-4648-ACD4-731EDDE9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8A4A8-2E7C-4C4C-A9FD-7661590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BC403-7DA4-4BEC-BAF2-5BCDE5C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911A5-6A98-40B0-AA77-919FAE3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4DC2-4C98-4214-930F-0FA5190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BD9A-26B9-46E9-8653-528E494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039F1-6164-4B75-8A74-1C1357CC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7A0C-CD32-4BC4-A868-B00DFB5A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E537F-0830-4C01-97E1-08C0DBD1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3534E-8BFB-4C2B-9227-3760336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67749-6F1D-49D5-8965-0A18D877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3D57-935E-4527-9AEE-0F40D258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5F31-38EA-4AB7-9CE5-1F316A920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EC4-78D2-42B1-A9B9-B4147272B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E74-502D-4546-8875-3EBEE27C2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B44-D156-4743-BFDF-63A2D33FB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C6E6-7D7F-4681-BB5C-A1075E2FD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D9F-CB46-4499-AB55-E7DB1BCCE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9BC-F2AE-42C5-B060-0792FC71D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E6C-24D6-4BEB-A08A-1DB1AE258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9643-C6B8-4E93-8580-3311FDF09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3E6-09B6-481D-88F9-4B0B5C37E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27F-34E6-4FA7-A0CD-1B03D2AD8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875-CE8C-49A2-A23A-F01E52F1F8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erican Li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Review of Act 1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Crucibl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	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	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1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359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y/Ru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girls and daughters of squabbling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fflicted with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iou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has been known to act out (crazy) in court when her family was up against thei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ecca N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 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in Beverly speak well of her because of her charitable work in the village of Salem and neighboring village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es Co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ingly accuses his wife of being involved i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li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iles is illiterate and a little DUMB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d for everything that goes wrong in the village.?? Because he is DU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1"/>
          <a:stretch/>
        </p:blipFill>
        <p:spPr>
          <a:xfrm>
            <a:off x="6670800" y="228600"/>
            <a:ext cx="2438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s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cial Functionalist or Social Accusation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lerance (Ir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Carthy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3151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end Par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ell 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reaches too often about hell/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obtained his position by unethical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0322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n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babies died a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lames this on…demonic spirits/witchc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es Tituba because she had her daughter Ruth go to the forest and conjure spirits of the dead bab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6992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nams cont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Pu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with many grievanc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James Bayley was supposed to become minister of Sa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ad grievances against him because he was the eldest s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ch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 in the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attempted to contest his fathers will/stepbrother was going to receive more money than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260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ig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preserve her name and to divert attention away from her, she condemns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s Tituba for conjuring spirits and making her drink chicke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r/Harm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/Bully/Manip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s the girls of Salem to keep their mouths shut OR EL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5653080" y="0"/>
            <a:ext cx="265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peg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s no social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rom Barbados (stereotype) is that they know more about witchcraft/superst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Pr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s Hypocr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gically Fla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ristian man who has an affair with a 17 year old 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is 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s that Rev. Ha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presence will cause more hysteria to be spread throughout Salem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6400800" y="33480"/>
            <a:ext cx="25779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end 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best of inten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pressures and growing hysteria will prove to add to the struggles of the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6:03:28Z</dcterms:created>
  <dc:creator>CCSD</dc:creator>
  <dc:description/>
  <dc:language>en-US</dc:language>
  <cp:lastModifiedBy>Sharon Spada</cp:lastModifiedBy>
  <dcterms:modified xsi:type="dcterms:W3CDTF">2015-09-08T16:43:18Z</dcterms:modified>
  <cp:revision>3</cp:revision>
  <dc:subject/>
  <dc:title>Review of Act 1 The Crucible  </dc:title>
</cp:coreProperties>
</file>